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Sergey Bri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hawn Guzman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Birth Dat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rgey was born on August 21, 1973.  He is still living to this very da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e was born in Mascow, Russia 1973. He moved to to America at the age of 5. 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urrently lives in America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7810560" y="4762440"/>
            <a:ext cx="308772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Education 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rgey received a Bachelor of Science Degree at the University of Marylan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e was honored in mathematics and computer science in 1993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e went to start his Ph. D in computer science at the Stanford of University. 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5"/>
          <a:stretch/>
        </p:blipFill>
        <p:spPr>
          <a:xfrm>
            <a:off x="7167600" y="5969160"/>
            <a:ext cx="4554360" cy="31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Busines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rgey Brin worked with Lawrence Page the co-founder of Googl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y worked on a project to organize the internet to improve the way people search information which they call googl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1371600" y="5765760"/>
            <a:ext cx="4716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Interesting Fact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rgey Brin is in a relationship with a girl with girl named Anne Wojcicki. 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he's not into him for his money....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e is an executive producer of the movie Broken Arrows. 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e is the co-founder of Googl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6"/>
          <a:stretch/>
        </p:blipFill>
        <p:spPr>
          <a:xfrm>
            <a:off x="7124760" y="4559400"/>
            <a:ext cx="3238560" cy="25016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7"/>
          <a:stretch/>
        </p:blipFill>
        <p:spPr>
          <a:xfrm>
            <a:off x="9931320" y="5986440"/>
            <a:ext cx="2362320" cy="336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